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9538-0315-415A-A8F8-B062D91D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3305-D91D-437E-BD12-29D997EA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D3A9-4197-4920-B5DB-013A2EF6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A5C6-3A2A-4F84-886D-A050E2DA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8598-F19E-41CB-BC43-60249C9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121-A414-4443-BBA5-6CCFC6C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DA00-023B-42DC-8008-8ADA8FA3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C708-6C82-48B7-ABFE-B24199F9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1EB1-2F35-4152-8298-22DF0D62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8D23-DA6F-407D-B640-B4AD945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3246-EC88-43AD-A76B-BF1CC8C1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1635-E871-4A92-BE53-1A420C00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A467-C986-4407-83E4-AADF1F89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0A66-0ECC-4DA2-AE57-69A472B7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1E93-63E8-4777-8527-FE481786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775C-F0D6-4D41-A980-FC142BAF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A59C-BE96-4149-AA84-70FCAEF3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25F8-ACAC-486F-852E-C7BD1AEC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785A-BEE4-424E-9764-E732784A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2309-62E3-4992-86D2-A76F3A72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BC68-1E0F-43DA-B32C-52816090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A9A5-14D8-4F41-9BF8-694871BF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DFB2-2D7F-42DD-959B-1F9056B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AD5B-F45B-41E0-980B-B257C26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c3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7b6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826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57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57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2958-4297-4609-A779-AC4B501E518F}" type="slidenum"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62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c3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7b6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826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DF1-27C0-4C54-9E1E-B55EE2A39C9A}" type="slidenum"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youtube.com/watch?v=so8J8MvCNfw&amp;feature=related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62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The Middle Ages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ngland &amp; France Develop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r. Pagliaro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Government-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Developments in England and France during the High Middle Ages greatly influenced American government.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escribe the various invaders who contributed to English culture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xplain how England’s government progressed towards democracy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escribe the Capetian dynasty’s influence on France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ommon law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arliament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Magna Carta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apetian Dynasty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Estates-Genera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Name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Alfred the Great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Anglo-Saxon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anute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Dane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William the Conqueror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orman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Henry II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Edward I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Hugh Capet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hilip II Augustu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hilip IV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arly Englan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lfred the Great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United Anglo-Saxon territories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anute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Merged Anglo-Saxons and Danish territories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dward the Confessor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Last Anglo-Saxon king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Kings prior to 1066-elected by Witenagemot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25" name="">
            <a:hlinkClick r:id="rId5"/>
          </p:cNvPr>
          <p:cNvSpPr/>
          <p:nvPr/>
        </p:nvSpPr>
        <p:spPr>
          <a:xfrm>
            <a:off x="3962520" y="5791320"/>
            <a:ext cx="1447560" cy="914400"/>
          </a:xfrm>
          <a:custGeom>
            <a:avLst/>
            <a:gdLst>
              <a:gd name="textAreaLeft" fmla="*/ 59040 w 1447560"/>
              <a:gd name="textAreaRight" fmla="*/ 1388520 w 1447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89" h="21600">
                <a:moveTo>
                  <a:pt x="0" y="0"/>
                </a:moveTo>
                <a:lnTo>
                  <a:pt x="34189" y="0"/>
                </a:lnTo>
                <a:lnTo>
                  <a:pt x="34189" y="21600"/>
                </a:lnTo>
                <a:lnTo>
                  <a:pt x="0" y="21600"/>
                </a:lnTo>
                <a:close/>
              </a:path>
              <a:path fill="lightenLess" w="34189" h="21600">
                <a:moveTo>
                  <a:pt x="0" y="0"/>
                </a:moveTo>
                <a:lnTo>
                  <a:pt x="34189" y="0"/>
                </a:lnTo>
                <a:lnTo>
                  <a:pt x="32789" y="1400"/>
                </a:lnTo>
                <a:lnTo>
                  <a:pt x="1400" y="1400"/>
                </a:lnTo>
                <a:close/>
              </a:path>
              <a:path fill="darken" w="34189" h="21600">
                <a:moveTo>
                  <a:pt x="34189" y="0"/>
                </a:moveTo>
                <a:lnTo>
                  <a:pt x="34189" y="21600"/>
                </a:lnTo>
                <a:lnTo>
                  <a:pt x="32789" y="20200"/>
                </a:lnTo>
                <a:lnTo>
                  <a:pt x="32789" y="1400"/>
                </a:lnTo>
                <a:close/>
              </a:path>
              <a:path fill="darkenLess" w="34189" h="21600">
                <a:moveTo>
                  <a:pt x="34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89" y="20200"/>
                </a:lnTo>
                <a:close/>
              </a:path>
              <a:path fill="lighten" w="34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89" h="21600">
                <a:moveTo>
                  <a:pt x="10088" y="3794"/>
                </a:moveTo>
                <a:lnTo>
                  <a:pt x="24101" y="10800"/>
                </a:lnTo>
                <a:lnTo>
                  <a:pt x="1008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Norman Invasion of Englan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Battle of Hastings (Oct. 14, 1066)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William, Duke of Normandy def. Harold Godwinson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Norman King of England = French Vassal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Bayeux Tapestry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905120" y="3733920"/>
            <a:ext cx="6943680" cy="2324160"/>
            <a:chOff x="1905120" y="3733920"/>
            <a:chExt cx="6943680" cy="2324160"/>
          </a:xfrm>
        </p:grpSpPr>
        <p:pic>
          <p:nvPicPr>
            <p:cNvPr id="529" name="" descr="William Rides To War scene 3 - Bayeux Tapestry"/>
            <p:cNvPicPr/>
            <p:nvPr/>
          </p:nvPicPr>
          <p:blipFill>
            <a:blip r:embed="rId3"/>
            <a:stretch/>
          </p:blipFill>
          <p:spPr>
            <a:xfrm>
              <a:off x="1905120" y="4343400"/>
              <a:ext cx="61912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 txBox="1"/>
            <p:nvPr/>
          </p:nvSpPr>
          <p:spPr>
            <a:xfrm>
              <a:off x="5181480" y="3733920"/>
              <a:ext cx="3667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William's Arm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62120" y="5143680"/>
            <a:ext cx="7867440" cy="1714320"/>
            <a:chOff x="762120" y="5143680"/>
            <a:chExt cx="7867440" cy="1714320"/>
          </a:xfrm>
        </p:grpSpPr>
        <p:pic>
          <p:nvPicPr>
            <p:cNvPr id="532" name="" descr="The Battle Of Hastings scene 2 - Bayeux Tapestry"/>
            <p:cNvPicPr/>
            <p:nvPr/>
          </p:nvPicPr>
          <p:blipFill>
            <a:blip r:embed="rId4"/>
            <a:stretch/>
          </p:blipFill>
          <p:spPr>
            <a:xfrm>
              <a:off x="762120" y="5143680"/>
              <a:ext cx="61912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 txBox="1"/>
            <p:nvPr/>
          </p:nvSpPr>
          <p:spPr>
            <a:xfrm>
              <a:off x="4572000" y="6210360"/>
              <a:ext cx="4057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Two Armi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52480" y="2133720"/>
            <a:ext cx="6267600" cy="4545000"/>
            <a:chOff x="1752480" y="2133720"/>
            <a:chExt cx="6267600" cy="4545000"/>
          </a:xfrm>
        </p:grpSpPr>
        <p:grpSp>
          <p:nvGrpSpPr>
            <p:cNvPr id="535" name=""/>
            <p:cNvGrpSpPr/>
            <p:nvPr/>
          </p:nvGrpSpPr>
          <p:grpSpPr>
            <a:xfrm>
              <a:off x="1752480" y="2133720"/>
              <a:ext cx="6267600" cy="4545000"/>
              <a:chOff x="1752480" y="2133720"/>
              <a:chExt cx="6267600" cy="4545000"/>
            </a:xfrm>
          </p:grpSpPr>
          <p:pic>
            <p:nvPicPr>
              <p:cNvPr id="5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2480" y="2133720"/>
                <a:ext cx="6267600" cy="454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5638680" y="2438640"/>
                <a:ext cx="1676520" cy="1219320"/>
              </a:xfrm>
              <a:prstGeom prst="ellipse">
                <a:avLst/>
              </a:prstGeom>
              <a:noFill/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99ff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 txBox="1"/>
            <p:nvPr/>
          </p:nvSpPr>
          <p:spPr>
            <a:xfrm>
              <a:off x="2209680" y="5105520"/>
              <a:ext cx="36673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arold's Deat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52280" y="5715000"/>
            <a:ext cx="1981440" cy="914400"/>
          </a:xfrm>
          <a:custGeom>
            <a:avLst/>
            <a:gdLst>
              <a:gd name="textAreaLeft" fmla="*/ 59040 w 1981440"/>
              <a:gd name="textAreaRight" fmla="*/ 1922400 w 1981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3794"/>
                </a:moveTo>
                <a:lnTo>
                  <a:pt x="30404" y="10800"/>
                </a:lnTo>
                <a:lnTo>
                  <a:pt x="16391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571500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3794"/>
                </a:moveTo>
                <a:lnTo>
                  <a:pt x="30400" y="10800"/>
                </a:lnTo>
                <a:lnTo>
                  <a:pt x="16387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he Domesday Book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illiam’s census-1086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Listed 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Mill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ven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cres of land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oper taxe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Plantagenet Dynasty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Henry II-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ign: 1154-1189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ommon law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Jury Trials with King’s Court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John (Lackland)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ign: 1199-1216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orced to agree to Magna Carta – 1215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Edward I (Longshanks)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ign: 1272-1307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Model Parliament - 1295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8"/>
          <a:stretch/>
        </p:blipFill>
        <p:spPr>
          <a:xfrm>
            <a:off x="6056280" y="2133720"/>
            <a:ext cx="3087720" cy="4724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File:Joao sem terra assina carta Magna.jpg"/>
          <p:cNvPicPr/>
          <p:nvPr/>
        </p:nvPicPr>
        <p:blipFill>
          <a:blip r:embed="rId9"/>
          <a:stretch/>
        </p:blipFill>
        <p:spPr>
          <a:xfrm>
            <a:off x="6248520" y="1295280"/>
            <a:ext cx="2711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Hugh Capet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3399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Capetian King; controlled Pari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hilip II Augustus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captured English held French territorie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Maine, Anjou, Touraine and parts of Normandy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hilip IV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dded Third Estate (the people) to the Estates-General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3399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Estate = Clergy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3399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Estate = Noble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549" name="" descr="File:Conquetes Philippe Auguste.gif"/>
          <p:cNvPicPr/>
          <p:nvPr/>
        </p:nvPicPr>
        <p:blipFill>
          <a:blip r:embed="rId7"/>
          <a:stretch/>
        </p:blipFill>
        <p:spPr>
          <a:xfrm>
            <a:off x="9144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5:46:59Z</dcterms:created>
  <dc:creator>cpagliaro</dc:creator>
  <dc:description/>
  <dc:language>en-US</dc:language>
  <cp:lastModifiedBy>cpagliaro</cp:lastModifiedBy>
  <dcterms:modified xsi:type="dcterms:W3CDTF">2009-04-24T17:09:37Z</dcterms:modified>
  <cp:revision>6</cp:revision>
  <dc:subject/>
  <dc:title>The Middle Ages</dc:title>
</cp:coreProperties>
</file>